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E33-379C-41DE-B640-5804AA34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055-AD44-4800-B5AF-4DED4CDB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84A-A9B9-4E15-858A-AC98053C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F87-137E-4C2B-9C5D-F77B7F86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2AA-84C8-46F4-9597-30588454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6E5-D770-4178-A825-6C25CB98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2C9-5666-4ED2-B7C5-19095A60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8FA-A163-4FF8-83D3-01571498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C55-316B-42CA-8888-A73AF12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D0F-16FC-4F9C-B394-527E2F8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394-D637-458B-84AF-EF91C711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F17-A335-4600-9E4D-5589448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A06-BCC7-4291-A2F8-D07177FA37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776240" y="2813040"/>
            <a:ext cx="68472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i="1" lang="en-US" sz="4600" spc="-1" strike="noStrike">
                <a:solidFill>
                  <a:srgbClr val="cc00ff"/>
                </a:solidFill>
                <a:latin typeface="Arial"/>
              </a:rPr>
              <a:t>Lesson 14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ff"/>
                </a:solidFill>
                <a:latin typeface="Arial"/>
              </a:rPr>
              <a:t>Amazing 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250920" y="1128600"/>
            <a:ext cx="889308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on't forget to close the window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同义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__________ ______ close the window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I think he likes dancing. 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否定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 ______ ______ he ______ dancing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I was late for school because my bike was broken. 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对划线部分提问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______ ______ ______ late for school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1440000" y="5734080"/>
            <a:ext cx="45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Why     were     you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964160" y="333360"/>
            <a:ext cx="1646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II. </a:t>
            </a:r>
            <a:r>
              <a:rPr b="1" lang="zh-CN" sz="3300" spc="-1" strike="noStrike">
                <a:solidFill>
                  <a:srgbClr val="008000"/>
                </a:solidFill>
                <a:latin typeface="Times New Roman"/>
              </a:rPr>
              <a:t>句型转换，每空一词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4643280" y="5013360"/>
            <a:ext cx="3961080" cy="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684360" y="5661000"/>
            <a:ext cx="1223640" cy="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24000" y="2546280"/>
            <a:ext cx="381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Remember      t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82560" y="3860640"/>
            <a:ext cx="5545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don't    think          lik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682560" y="1738440"/>
            <a:ext cx="806616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位母亲细心地照料她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ther ______ ______ her chi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木材来源于树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od ______ ______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052360" y="5164200"/>
            <a:ext cx="30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comes  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683520" y="907920"/>
            <a:ext cx="118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III. </a:t>
            </a:r>
            <a:r>
              <a:rPr b="1" lang="zh-CN" sz="3300" spc="-1" strike="noStrike">
                <a:solidFill>
                  <a:srgbClr val="008000"/>
                </a:solidFill>
                <a:latin typeface="Times New Roman"/>
              </a:rPr>
              <a:t>根据所给汉语意思，翻译下列句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3278880" y="271620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looks  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47640" y="476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ff"/>
                </a:solidFill>
                <a:latin typeface="Arial"/>
              </a:rPr>
              <a:t>Homew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079280" y="2325600"/>
            <a:ext cx="67276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ould you like to have a pe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074600" y="4486320"/>
            <a:ext cx="633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rite a paragrap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755640" y="4653000"/>
            <a:ext cx="55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1) remind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2) lay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1840" y="549360"/>
            <a:ext cx="4019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9900"/>
                </a:solidFill>
                <a:latin typeface="Arial"/>
              </a:rPr>
              <a:t>I. Learning aim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95280" y="1268280"/>
            <a:ext cx="84297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Know about the words: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long-eared, jerboa, mouse, kiwi, lay, eggplant, shak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flap, av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68360" y="3429000"/>
            <a:ext cx="842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9900"/>
                </a:solidFill>
                <a:latin typeface="Arial"/>
              </a:rPr>
              <a:t>II. Learning important and difficult points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1763640" y="685800"/>
            <a:ext cx="511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9900"/>
                </a:solidFill>
                <a:latin typeface="Arial"/>
              </a:rPr>
              <a:t>New Word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187280" y="2205000"/>
            <a:ext cx="727416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8080"/>
                </a:solidFill>
                <a:latin typeface="Arial"/>
              </a:rPr>
              <a:t>long-eared           jerboa mouse                   kiwi                lay                       eggplant shake                     flap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8080"/>
                </a:solidFill>
                <a:latin typeface="Arial"/>
              </a:rPr>
              <a:t>avoi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403280" y="1052640"/>
            <a:ext cx="5689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cc3399"/>
                </a:solidFill>
                <a:latin typeface="Arial"/>
              </a:rPr>
              <a:t>Think About It 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11280" y="220500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an you name some animals you have never seen bef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</a:rPr>
              <a:t>◆ </a:t>
            </a:r>
            <a:r>
              <a:rPr b="0" lang="en-US" sz="3600" spc="-1" strike="noStrike">
                <a:solidFill>
                  <a:srgbClr val="cc00ff"/>
                </a:solidFill>
                <a:latin typeface="Arial"/>
              </a:rPr>
              <a:t>What animals do you think are amazing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9640" y="2133720"/>
            <a:ext cx="608328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009900"/>
                </a:solidFill>
                <a:latin typeface="Arial"/>
              </a:rPr>
              <a:t>Language 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7600" spc="-1" strike="noStrike">
                <a:solidFill>
                  <a:srgbClr val="009900"/>
                </a:solidFill>
                <a:latin typeface="Arial"/>
              </a:rPr>
              <a:t>Point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6280"/>
            <a:ext cx="8207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Arial"/>
              </a:rPr>
              <a:t>1. With their long ears, they also remind people of rabbits. </a:t>
            </a:r>
            <a:r>
              <a:rPr b="1" lang="zh-CN" sz="3300" spc="-1" strike="noStrike">
                <a:solidFill>
                  <a:srgbClr val="ff0066"/>
                </a:solidFill>
                <a:latin typeface="Arial"/>
              </a:rPr>
              <a:t>他们有长长的耳朵，使人们想起了兔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68360" y="2133720"/>
            <a:ext cx="79214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作动词，意为“使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想起”，常用结构为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 sb. of / about sth.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 sb. that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从句。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还可意为“提醒”，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 sb. to do sth.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，意为“提醒某人做某事”。如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68360" y="5373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mind me to call him back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提醒我给他回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404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2. Like all birds, they lay eggs—big eggs.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像所有鸟一样，他们也产蛋，很大的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1628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动词，意为“放置；产（卵）”，过去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i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过去分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i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分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9640" y="3068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black hen lays an egg a day.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那只黑母鸡每天产一个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50920" y="4221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为“躺”，常与表示场所的短语连用。过去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过去分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i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分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He was lying in the shade of the tree.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他正躺在树荫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124000" y="2421000"/>
            <a:ext cx="54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00"/>
                </a:solidFill>
                <a:latin typeface="Arial"/>
              </a:rPr>
              <a:t>Exerci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2"/>
          <p:cNvSpPr/>
          <p:nvPr/>
        </p:nvSpPr>
        <p:spPr>
          <a:xfrm>
            <a:off x="179280" y="981000"/>
            <a:ext cx="889344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1. We all like the basketball player ______ (name) Yao 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2. The dog is ______ (run) behind the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3. Yesterday we ______ (eat) some bread for break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4. That girl is ______ (scare) of snak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5. What ______ you ______ (do) at thr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'clock yesterday aftern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2124000" y="5373720"/>
            <a:ext cx="417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were             do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1519560" y="309600"/>
            <a:ext cx="392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I. </a:t>
            </a:r>
            <a:r>
              <a:rPr b="1" lang="zh-CN" sz="3300" spc="-1" strike="noStrike">
                <a:solidFill>
                  <a:srgbClr val="008000"/>
                </a:solidFill>
                <a:latin typeface="Times New Roman"/>
              </a:rPr>
              <a:t>用所给单词的适当形式填空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7310160" y="1104840"/>
            <a:ext cx="153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nam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2988360" y="2473200"/>
            <a:ext cx="1739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997080" y="3265560"/>
            <a:ext cx="78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3037320" y="4705200"/>
            <a:ext cx="153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scar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18:09Z</dcterms:created>
  <dc:creator> </dc:creator>
  <dc:description> </dc:description>
  <dc:language>en-US</dc:language>
  <cp:lastModifiedBy>Administrator</cp:lastModifiedBy>
  <dcterms:modified xsi:type="dcterms:W3CDTF">2019-01-02T02:18:5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